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4568-327C-4323-B585-4E5F33A3E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41CE-59AD-4B8F-A0EE-6554745F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BD7-339A-43A6-9067-24A2E994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6F5-089B-4FB6-834D-7C1CBADE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04E-A530-47AC-9B36-9803BE4A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01F-2C21-4399-AEE6-57EC036D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4D2-AB29-4891-9AB4-9914AC6E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40F-C130-4908-B8E9-E67AABB2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E8C-2E43-45D4-B8AB-6CD5FE11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277-8E5E-4B1B-B5AE-66456BC0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3D8-92BA-438D-8E50-AF53DB70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748-6ED2-4655-A34E-A14B48DE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6B6-213E-4C79-ADA0-A14C950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FE1-C00D-460E-827A-4F9FD465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69C6-BD30-429B-A673-4216C15A8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McGregor</cp:lastModifiedBy>
  <dcterms:modified xsi:type="dcterms:W3CDTF">2012-06-19T00:31:18Z</dcterms:modified>
  <cp:revision>118</cp:revision>
  <dc:subject/>
  <dc:title>Museum of World Stuff</dc:title>
</cp:coreProperties>
</file>